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251-ACF8-416E-BC6C-EA69183A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DC11-9A7E-4AA2-A47D-555CE14C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CA74-0CDA-47EF-890A-38B1FB34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FC0C-4755-42C1-8EFC-1CC95CBC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B43D-4D18-47EA-85C0-42A81222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AE8E-F050-40EA-8112-ECCB3896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4213-C836-4AE0-943E-8DD19CC0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BE2-3627-4258-87D3-D10F14A7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CCE-1222-4CAB-A85B-7130E788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DC4B-0A49-4547-A9A6-FA57A266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9C75-5BDE-48FB-A495-A140719E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E4D1-41ED-46DF-A808-9BB77830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9BE57-6991-4652-94D1-84A722C5C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cces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Great Place to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022040"/>
            <a:ext cx="82296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yal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termin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dicat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eliev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lativ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lat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ssociat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quival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know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pula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famou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mark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it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nswer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act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spond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turn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iv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av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k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ffort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sult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sponsibl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cces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o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ery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weve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umbers 9 and 10 are the same word. Fill in the blank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 startAt="11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pprais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ify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a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ri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 startAt="11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 startAt="11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urnishing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oviding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rranging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k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 startAt="11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these questions with a partn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of a person you consider to be successful. What makes you think they are successful? What, in your view, are the reasons for their succe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think are the obstacles to succe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ming your mind for success</a:t>
            </a:r>
            <a:br>
              <a:rPr sz="32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s://www.youtube.com/watch?v=MmfikLimeQ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uld you get up on the stage in front of nearly a thousand people? Write down a couple of reasons why or why n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happens to the man who gets up on stag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e gives three reasons for someone not coming up on stage. What do you think they might b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ar – obstacles – motiv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were the people who did volunteer thinkin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the point of this little experimen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ming your mind for success</a:t>
            </a:r>
            <a:br>
              <a:rPr sz="32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s://www.youtube.com/watch?v=MmfikLimeQ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e gives three reasons for someone not coming up on sta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ea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getting up in front of so many people, the unknown: you don’t what she will ask you to 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stac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being at the back of the theatre, walking in the dark, tables and chairs in your w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 have n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tiv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you can’t be  bothered to do it, let someone else do it for y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were the people who did volunteer thinkin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riosity, How exciting!, no one else will do it (sense of dut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point of this little experim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it demonstrates the power of your mi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fe exper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hort paragraph (max 100-120 words) about a time in your life when you had to overcome fear, obstacles or a lack of motivation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ime limit: 14 m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the outcome? Were you successful or were the circumstances too much to overco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the paragraph to your partn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it |grɪt|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loose particles of stone or sand: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she had a bit of grit in her ey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rage and resolve; strength of character: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I've known few men who could match Maude's gr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it |grɪt|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R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it one's teet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nch one's teeth, especially when faced with something unpleasant: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grit your teeth and splash yourself with cold water!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• resolve to do something difficult or unpleasant: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Parliament must grit its teeth and take a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key to success? 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Grit</a:t>
            </a:r>
            <a:br>
              <a:rPr sz="2900"/>
            </a:b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https://www.youtube.com/watch?v=H14bBuluwB8&amp;list=PLueYty8QCOFZameS4hs6o9WjgAL6GJu8B&amp;index=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1.5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was the question she was asking in her research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were some of the situations in which she asked this question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her definition of grit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did she learn at the Chicago public schools?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es talent make you gritty? Why or Why not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growth mindse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y teach kids about the brain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ey to success?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1.53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at was the question she was asking in her research? </a:t>
            </a:r>
            <a:r>
              <a:rPr b="0" i="1" lang="en-US" sz="1500" spc="-1" strike="noStrike">
                <a:solidFill>
                  <a:srgbClr val="0000ff"/>
                </a:solidFill>
                <a:latin typeface="Calibri"/>
              </a:rPr>
              <a:t>Who is successful here and why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at were some of the situations in which she asked this question? </a:t>
            </a:r>
            <a:r>
              <a:rPr b="0" i="1" lang="en-US" sz="1500" spc="-1" strike="noStrike">
                <a:solidFill>
                  <a:srgbClr val="0000ff"/>
                </a:solidFill>
                <a:latin typeface="Calibri"/>
              </a:rPr>
              <a:t>West Point Military Academy, national spelling bee, rookie teachers in tough neighborhoods, private compan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at is her definition of grit? </a:t>
            </a:r>
            <a:r>
              <a:rPr b="0" i="1" lang="en-US" sz="1500" spc="-1" strike="noStrike">
                <a:solidFill>
                  <a:srgbClr val="0000ff"/>
                </a:solidFill>
                <a:latin typeface="Calibri"/>
              </a:rPr>
              <a:t>passion and perseverance, stamina, sticking with your future for your teacher, working hard, life is a marathon not a spri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at did she learn at the Chicago public schools? </a:t>
            </a:r>
            <a:r>
              <a:rPr b="0" lang="en-US" sz="1500" spc="-1" strike="noStrike">
                <a:solidFill>
                  <a:srgbClr val="0000ff"/>
                </a:solidFill>
                <a:latin typeface="Calibri"/>
              </a:rPr>
              <a:t>Grittier kids did not drop out regardless of family income, achievement test scores, sense of safety, IQ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at is most shocking about grit? </a:t>
            </a:r>
            <a:r>
              <a:rPr b="0" lang="en-US" sz="1500" spc="-1" strike="noStrike">
                <a:solidFill>
                  <a:srgbClr val="0000ff"/>
                </a:solidFill>
                <a:latin typeface="Calibri"/>
              </a:rPr>
              <a:t>We know very little about it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oes talent make you gritty? Why or Why not?  </a:t>
            </a:r>
            <a:r>
              <a:rPr b="0" i="1" lang="en-US" sz="1500" spc="-1" strike="noStrike">
                <a:solidFill>
                  <a:srgbClr val="0000ff"/>
                </a:solidFill>
                <a:latin typeface="Calibri"/>
              </a:rPr>
              <a:t>Grit is unrelated or inversely related to talent; talented individuals often do not follow through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at is growth mindset? </a:t>
            </a:r>
            <a:r>
              <a:rPr b="0" i="1" lang="en-US" sz="1500" spc="-1" strike="noStrike">
                <a:solidFill>
                  <a:srgbClr val="0000ff"/>
                </a:solidFill>
                <a:latin typeface="Calibri"/>
              </a:rPr>
              <a:t>The belief that the ability to learn is not fixed; it can change with effort.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y teach kids about the brain? </a:t>
            </a:r>
            <a:r>
              <a:rPr b="0" i="1" lang="en-US" sz="1500" spc="-1" strike="noStrike">
                <a:solidFill>
                  <a:srgbClr val="0000ff"/>
                </a:solidFill>
                <a:latin typeface="Calibri"/>
              </a:rPr>
              <a:t>They are more likely to persevere when they fail. Failure is not a permanent condition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20:06:32Z</dcterms:created>
  <dc:creator>Paul Filippetto</dc:creator>
  <dc:description/>
  <dc:language>en-US</dc:language>
  <cp:lastModifiedBy>Paul Filippetto</cp:lastModifiedBy>
  <dcterms:modified xsi:type="dcterms:W3CDTF">2015-02-23T10:00:53Z</dcterms:modified>
  <cp:revision>25</cp:revision>
  <dc:subject/>
  <dc:title>success and motivation</dc:title>
</cp:coreProperties>
</file>